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D9E2-B8BF-4395-9FCD-784ACD83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3D33-7145-4714-8978-F558BB78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C499-CB82-478E-BC6B-BD5B7F57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F5E-C72F-4877-9F55-D60CE4CF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6C935-1D42-4D3C-844C-F0071F3A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0156C-4EC3-419F-966A-5750BD78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C043B-DD46-4DEB-A5B7-AC7F8C9B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CDBD4-70F2-4653-A0D3-1084C42E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6BD0C-A9C8-4FFD-9FFA-0705DED4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30EE2-594B-4B86-A21E-25C7D57C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859AC-F6EC-4AF4-98BC-62200385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9A1D-BE9F-4B35-A293-2A3146E8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CBB5F-52CE-452D-82E2-0BE0D447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D1514-B027-4203-9CBE-671A8716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CFA13-38D5-480C-9A20-CEB3C70C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6BAA6-7BDB-4D22-A145-F9CB737D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EAFA4-4279-42EE-B666-40A1A23A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F79-B1C7-4521-BB69-8A49F18C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4D95-885F-4368-B0C0-1D63B1C9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D533-3D74-4F9E-AD4B-D5B7339F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6EBE-85B7-4006-9431-1AB3793F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1C0-3B6D-4AA4-889F-919A526F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24E1-BAE8-4CBE-9455-9453B2A0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9C1E-ABE2-43EE-8773-538E0977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B759-FBB9-44BC-A444-9DD842A9CA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782A-E9B4-4193-A5E1-8858A5481C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990720" y="-609480"/>
            <a:ext cx="77724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mans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Arial"/>
              </a:rPr>
              <a:t>ó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9480" y="2590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Devin Delca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8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Mans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grande lujoso mans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2514600"/>
            <a:ext cx="4589640" cy="3443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l pati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fabuloso pat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81080" y="2514600"/>
            <a:ext cx="4724640" cy="3471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sal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incredible s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14600" y="2438280"/>
            <a:ext cx="3962520" cy="33530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gara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fabuloso gara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05120" y="2514600"/>
            <a:ext cx="4952880" cy="3368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os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moderno cos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362320" y="2514600"/>
            <a:ext cx="4521240" cy="3390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ome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fabuloso come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905120" y="2514600"/>
            <a:ext cx="5181480" cy="3373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b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lujoso b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09680" y="2666880"/>
            <a:ext cx="4324320" cy="2884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uar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fabuloso cuar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953240" cy="3579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5:43:00Z</dcterms:created>
  <dc:creator>delcampodev</dc:creator>
  <dc:description/>
  <dc:language>en-US</dc:language>
  <cp:lastModifiedBy>delcampodev</cp:lastModifiedBy>
  <dcterms:modified xsi:type="dcterms:W3CDTF">2011-11-01T17:25:32Z</dcterms:modified>
  <cp:revision>5</cp:revision>
  <dc:subject/>
  <dc:title>La mansión</dc:title>
</cp:coreProperties>
</file>